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7DD7-CB52-4BD9-9541-66919D74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7F8-6208-483C-B744-0F0DD7AD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2648-B111-4485-9795-DCFA9C5E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243E-D002-4785-8B54-28B6F189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5FAB-285E-481B-8A21-D874C3F6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D77E-B6F5-4BB2-A80A-25F692E8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8B9-2095-4E4B-B0CF-3DF02BD7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9791-43EE-4AC1-A13F-27185817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51A-932D-4F0E-9150-3F9C804F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221-12C0-412D-833C-C15D3F3F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2AB8-4973-4E3E-9EC1-30C715DB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66D1-995E-45DD-9163-9AFD1578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7CDBC-409B-4A9A-B237-C3555E78D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81080" cy="917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640"/>
              <a:gd name="textAreaBottom" fmla="*/ 917280 h 917640"/>
            </a:gdLst>
            <a:ahLst/>
            <a:rect l="textAreaLeft" t="textAreaTop" r="textAreaRight" b="textAreaBottom"/>
            <a:pathLst>
              <a:path w="21600" h="109286">
                <a:moveTo>
                  <a:pt x="189" y="0"/>
                </a:moveTo>
                <a:arcTo wR="189" hR="189" stAng="16200000" swAng="-5400000"/>
                <a:lnTo>
                  <a:pt x="0" y="109097"/>
                </a:lnTo>
                <a:arcTo wR="189" hR="189" stAng="10800000" swAng="-5400000"/>
                <a:lnTo>
                  <a:pt x="21411" y="109286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8140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68560"/>
            <a:ext cx="181080" cy="91728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17280"/>
              <a:gd name="textAreaBottom" fmla="*/ 916920 h 917280"/>
            </a:gdLst>
            <a:ahLst/>
            <a:rect l="textAreaLeft" t="textAreaTop" r="textAreaRight" b="textAreaBottom"/>
            <a:pathLst>
              <a:path w="21600" h="109243">
                <a:moveTo>
                  <a:pt x="189" y="0"/>
                </a:moveTo>
                <a:arcTo wR="189" hR="189" stAng="16200000" swAng="-5400000"/>
                <a:lnTo>
                  <a:pt x="0" y="109054"/>
                </a:lnTo>
                <a:arcTo wR="189" hR="189" stAng="10800000" swAng="-5400000"/>
                <a:lnTo>
                  <a:pt x="21411" y="10924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qlite.org/" TargetMode="External"/><Relationship Id="rId2" Type="http://schemas.openxmlformats.org/officeDocument/2006/relationships/hyperlink" Target="http://www.qgis.org/" TargetMode="External"/><Relationship Id="rId3" Type="http://schemas.openxmlformats.org/officeDocument/2006/relationships/hyperlink" Target="http://www.gaia-gis.it/spatialite/" TargetMode="External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DBC legac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7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ovv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ome continuare ad utilizzare ancora le vecchie applicazioni DBC a supporto dei processi  gestionali del T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.. magari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iziando a fare qualche piccolo passo in av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DBC apps: obsolete, ma ..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X le Azi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bcGaia / Dbc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iaT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X gli 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bc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bcE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bc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tc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plici applicazioni desktop Win32, basate su DB MS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curamente obsolete sotto svariati profili tecnolog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uttora largamente utilizzate in molti conte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identemente una semplicità elementare ed una buona affidabilità ancora rappresentano u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bonu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er molti ut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Costruire un pont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mbienti client server /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58160" indent="-55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l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58160" indent="-55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58160" indent="-55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vata rigid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mbienti desk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58160" indent="-55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mpl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58160" indent="-55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conom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658160" indent="-5500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ssima flessi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a sempre le DBC apps presidiano onorevolmente il versante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 quindi possono ancora continuare a svolgere un compito utile e produt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che se si impone un aggiornamento ai nuovi contesti tecnolog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L'anello mancant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e DBC apps continuano a svolgere un ruolo insostituibile per la generazione dei contenuti primari da parte delle Aziende TPL [comunicazioni del piano di esercizio] - GaiaTp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iceversa, con l'introduzione nello scenario dei vari server [Telemaco, Ermes], rischiavano di uscire di scena le DBC apps lato pianificazione ed analisi – DbcBase, DbcExplorer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elemaco risolveva il problema generando direttamente i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resource packs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e rendendoli disponibili per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 nel nuovo scenario Ermes rischia di venir meno l'alimentazione dei dati in un formato immediatamente utilizzabile per gli utenti deskt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Quindi un nuovo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toolkit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in grado di alimentare le vecchie DBC apps a partire dai formati DbcXML giunge sicuramente ut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dbcxml2split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Un semplice 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tool command 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In grado di acquisire una comunicazione Dbc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limentando un DB SQLite + SpatiaL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pzionalmente è anche possibile generare i files nei vecchi formati DbcT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 quindi in questo modo è possibile continuare ad alimentare le varie DBC a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41240" y="3117960"/>
            <a:ext cx="4200480" cy="27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Il valore aggiunto: SQL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41240" y="2908440"/>
            <a:ext cx="4200480" cy="31478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 si aprono anche nuovi scenari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atti è possibile interrogare direttamente il DB SQLite tramite 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erazione non alla portata di tutti, ma sicuramente di mol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 l'altro, SQLite offre un ottimo supporto sia per Python che per 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venta quindi abbastanza semplice sviluppare piccole app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per scopi specifici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Il valore aggiunto: GI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41240" y="2909880"/>
            <a:ext cx="4200480" cy="31449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a un DB SpatiaLite è di per se stesso un DB Spatial a tutti gli effe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Quindi è possibile consultare la cartografia delle reti TPL in modo diretto ed immedi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1240" y="600120"/>
            <a:ext cx="860760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Il valore aggiunto: compatibilità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41240" y="2701800"/>
            <a:ext cx="4200480" cy="3562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51600" y="2101320"/>
            <a:ext cx="42004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' facile utilizzare un DB SpatiaLite anche con prodotti SW di ampia diffus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.es. usando Quantum GIS, un GIS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open sourc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molto sofisticato e particolarmente diffus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333333"/>
                </a:solidFill>
                <a:latin typeface="Arial"/>
              </a:rPr>
              <a:t>Risorse utili per esploratori volenterosi ed avventurosi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utti i prodotti SW sotto elencati sono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open sour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e quindi disponibili a titolo assolutamente gratu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i rispettivi siti potete trovare le versioni eseguibili per Windows, Linux e Mac Os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ltre alla documentazione, manuali. tutorials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sqlite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QLite: documentazione SQL, API C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qgis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Quantum GIS [consigliata la 1.4 di imminente rilasci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gaia-gis.it/spatialit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27280" indent="-5731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ools GUI, manuali etc … [consigliata la 2.4.0-RC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32:33Z</dcterms:created>
  <dc:creator/>
  <dc:description/>
  <dc:language>en-US</dc:language>
  <cp:lastModifiedBy>Alessandro Furieri</cp:lastModifiedBy>
  <dcterms:modified xsi:type="dcterms:W3CDTF">2009-12-29T13:34:04Z</dcterms:modified>
  <cp:revision>3</cp:revision>
  <dc:subject/>
  <dc:title/>
</cp:coreProperties>
</file>