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920-C87D-42C7-92F7-607AAFF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EAF-7002-46F7-9452-C7A9937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D90-613A-48B0-9B33-4F54131F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CDA-C3B6-4AFE-9E2E-5943B13E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5D9-ED8A-4F18-A4AD-CC9219C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355-D494-43EB-832A-4FD550C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F5C-F595-4F12-9776-E10A4D6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7A8-1843-4FC1-A9F8-745A170B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569-5AC5-4561-B191-F9499BFF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37B-E1BE-4932-9E6F-6F62513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846-C5A0-4415-8067-2E21B7C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34E-21F1-41F9-8FE2-7D3DFF0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D5B77-F9D9-4C4C-B931-52A508A6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qlite.org/" TargetMode="External"/><Relationship Id="rId2" Type="http://schemas.openxmlformats.org/officeDocument/2006/relationships/hyperlink" Target="http://www.qgis.org/" TargetMode="External"/><Relationship Id="rId3" Type="http://schemas.openxmlformats.org/officeDocument/2006/relationships/hyperlink" Target="http://www.gaia-gis.it/spatialite/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legac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ovv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e continuare ad utilizzare ancora le vecchie applicazioni DBC a supporto dei processi  gestionali del T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.. magari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iziando a fare qualche piccolo passo in 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apps: obsolete, ma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le Azi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Gaia / Dbc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iaT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gli 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c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 applicazioni desktop Win32, basate su DB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uramente obsolete sotto svariati profili tecn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uttora largamente utilizzate in molti cont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identemente una semplicità elementare ed una buona affidabilità ancora rappresentano u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n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 molti u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Costruire un po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client server /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vata rigid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sima 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sempre le DBC apps presidiano onorevolmente il versante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 quindi possono ancora continuare a svolgere un compito utile e produt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che se si impone un aggiornamento ai nuovi contesti tecn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L'anello manca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e DBC apps continuano a svolgere un ruolo insostituibile per la generazione dei contenuti primari da parte delle Aziende TPL [comunicazioni del piano di esercizio] - GaiaTp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iceversa, con l'introduzione nello scenario dei vari server [Telemaco, Ermes], rischiavano di uscire di scena le DBC apps lato pianificazione ed analisi – DbcBase, DbcExplor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lemaco risolveva il problema generando direttamente i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resource pack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e rendendoli disponibili per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 nel nuovo scenario Ermes rischia di venir meno l'alimentazione dei dati in un formato immediatamente utilizzabile per gli utenti desk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indi un nuovo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ki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in grado di alimentare le vecchie DBC apps a partire dai formati DbcXML giunge sicuramente u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xml2spli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 semplice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 comman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grado di acquisire una comunicazione Dbc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imentando un DB SQLite + Spatia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pzionalmente è anche possibile generare i files nei vecchi formati DbcT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 quindi in questo modo è possibile continuare ad alimentare le varie DBC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41240" y="3117960"/>
            <a:ext cx="420048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SQ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1240" y="2908440"/>
            <a:ext cx="4200480" cy="3147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 si aprono anche nuovi scenar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atti è possibile interrogare direttamente il DB SQLite tramite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zione non alla portata di tutti, ma sicuramente di mol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 l'altro, SQLite offre un ottimo supporto sia per Python che per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venta quindi abbastanza semplice sviluppare piccole app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 scopi specifici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G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1240" y="2909880"/>
            <a:ext cx="4200480" cy="314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 un DB SpatiaLite è di per se stesso un DB Spatial a tutti gli eff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Quindi è possibile consultare la cartografia delle reti TPL in modo diretto ed immed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compatibilità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1240" y="2701800"/>
            <a:ext cx="4200480" cy="3562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' facile utilizzare un DB SpatiaLite anche con prodotti SW di ampia diffu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.es. usando Quantum GIS, un GI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olto sofisticato e particolarmente diffu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Risorse utili per esploratori volenterosi ed avventuros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tti i prodotti SW sotto elencati sono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 quindi disponibili a titolo assolutamente grat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i rispettivi siti potete trovare le versioni eseguibili per Windows, Linux e Mac 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ltre alla documentazione, manuali. tutorial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qlite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QLite: documentazione SQL, API C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qg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um GIS [consigliata la 1.4 di imminente rilasci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aia-gis.it/spatiali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ols GUI, manuali etc … [consigliata la 2.4.0-R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3Z</dcterms:created>
  <dc:creator/>
  <dc:description/>
  <dc:language>en-US</dc:language>
  <cp:lastModifiedBy>Alessandro Furieri</cp:lastModifiedBy>
  <dcterms:modified xsi:type="dcterms:W3CDTF">2009-12-29T13:34:04Z</dcterms:modified>
  <cp:revision>3</cp:revision>
  <dc:subject/>
  <dc:title/>
</cp:coreProperties>
</file>